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455-5247-474D-A193-A890E35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106-DF92-4519-B993-71809DC9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EF2-3B3E-4FF3-888F-1068D76D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344-0F2F-4327-8005-4C2E7770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9D9-70AF-4E60-9DCE-07DD5EC7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137-6A25-43EA-881B-78DAAF6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A65-A0E9-4C47-8D69-E5D62FC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FBE-3401-486E-BC4B-6E8D7F46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AC3-3D31-4B2C-BEF8-1FA7DAAA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B0D-BBDF-4DC2-8C12-559C874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0B1-2C8F-4810-9B9B-2F77FA3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172-65A3-4510-967A-74FB088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DC27-578F-4B9F-BBAF-AE3E1E15B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428760"/>
            <a:ext cx="700092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еселый танграм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714240" y="1857240"/>
            <a:ext cx="1944720" cy="1729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857680" y="1785960"/>
            <a:ext cx="1223640" cy="1079640"/>
          </a:xfrm>
          <a:prstGeom prst="rect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5929200" y="3214800"/>
            <a:ext cx="2737080" cy="1296720"/>
          </a:xfrm>
          <a:prstGeom prst="parallelogram">
            <a:avLst>
              <a:gd name="adj" fmla="val 5276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Ромб 7"/>
          <p:cNvSpPr/>
          <p:nvPr/>
        </p:nvSpPr>
        <p:spPr>
          <a:xfrm>
            <a:off x="5429160" y="4786200"/>
            <a:ext cx="2643120" cy="178596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3"/>
          <a:srcRect l="18273" t="22444" r="58843" b="47054"/>
          <a:stretch/>
        </p:blipFill>
        <p:spPr>
          <a:xfrm>
            <a:off x="1714680" y="40719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 rot="15130200">
            <a:off x="4147920" y="1967760"/>
            <a:ext cx="1944720" cy="1729080"/>
          </a:xfrm>
          <a:prstGeom prst="rtTriangle">
            <a:avLst/>
          </a:prstGeom>
          <a:solidFill>
            <a:srgbClr val="ff33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ьте параллелограмм из пяти частей и найдите его площадь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домашнее зад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10800000">
            <a:off x="1619280" y="278136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564000" y="278136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rot="10800000">
            <a:off x="3564000" y="278136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5508720" y="364500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16360" y="2781360"/>
            <a:ext cx="0" cy="1152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5508720" y="3645000"/>
            <a:ext cx="0" cy="1008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16360" y="2781360"/>
            <a:ext cx="792360" cy="8636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4716360" y="3933720"/>
            <a:ext cx="792360" cy="790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26e2"/>
                </a:solidFill>
                <a:latin typeface="Calligraph421 BT"/>
              </a:rPr>
              <a:t>Ответьте на вопросы теста</a:t>
            </a:r>
            <a:r>
              <a:rPr b="1" lang="en-US" sz="4400" spc="-1" strike="noStrike">
                <a:solidFill>
                  <a:srgbClr val="3326e2"/>
                </a:solidFill>
                <a:latin typeface="Calligraph421 B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лощадь параллелограм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яется по форму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ого треугольника вычисля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квадрата вычисля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3500280" y="4071960"/>
                <a:ext cx="207648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4287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щадь ромба находится по форму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трапеции рав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ика вычисля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857680" y="2928960"/>
                <a:ext cx="276372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713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Формула площади треугольник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ромба можно найти по форму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3143160" y="2143080"/>
                <a:ext cx="21384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13"/>
          <p:cNvSpPr/>
          <p:nvPr/>
        </p:nvSpPr>
        <p:spPr>
          <a:xfrm>
            <a:off x="785880" y="55720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ы:   1) 3.1.2.   2) 1.2.3.  3) 1.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 rot="18905400">
            <a:off x="755280" y="33192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 rot="13447800">
            <a:off x="-612360" y="1699560"/>
            <a:ext cx="1944720" cy="19429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 rot="8025000">
            <a:off x="575640" y="353664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 rot="13563600">
            <a:off x="1360080" y="2750760"/>
            <a:ext cx="998640" cy="1055520"/>
          </a:xfrm>
          <a:prstGeom prst="rect">
            <a:avLst/>
          </a:prstGeom>
          <a:solidFill>
            <a:srgbClr val="f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 rot="2712000">
            <a:off x="2003040" y="2035080"/>
            <a:ext cx="1070280" cy="11174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 rot="16200000">
            <a:off x="1800000" y="2671560"/>
            <a:ext cx="1295280" cy="136836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84360" y="2637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154764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97164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092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169236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2771640" y="2492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2556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1258920" y="544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4067280" y="234936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 rot="5400000">
            <a:off x="6066000" y="272772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"/>
          <p:cNvSpPr/>
          <p:nvPr/>
        </p:nvSpPr>
        <p:spPr>
          <a:xfrm rot="16200000">
            <a:off x="6066360" y="279936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 rot="8120400">
            <a:off x="1898280" y="1807920"/>
            <a:ext cx="1812960" cy="996840"/>
          </a:xfrm>
          <a:prstGeom prst="parallelogram">
            <a:avLst>
              <a:gd name="adj" fmla="val 95642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 rot="13642200">
            <a:off x="3516120" y="4197240"/>
            <a:ext cx="1812960" cy="996840"/>
          </a:xfrm>
          <a:prstGeom prst="parallelogram">
            <a:avLst>
              <a:gd name="adj" fmla="val 95642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 rot="10800000">
            <a:off x="6084360" y="4508640"/>
            <a:ext cx="111636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7236000" y="450864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4067280" y="11253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е площади треугольни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араллелограм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2556000" y="242100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270036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 rot="16200000">
            <a:off x="1576080" y="4263840"/>
            <a:ext cx="998640" cy="1055880"/>
          </a:xfrm>
          <a:prstGeom prst="rect">
            <a:avLst/>
          </a:prstGeom>
          <a:solidFill>
            <a:srgbClr val="f3fb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539640" y="328464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 rot="13407600">
            <a:off x="2340000" y="90720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 rot="8068800">
            <a:off x="3185280" y="1718280"/>
            <a:ext cx="1116000" cy="10792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 rot="8023800">
            <a:off x="3672360" y="4833000"/>
            <a:ext cx="1296720" cy="136836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 rot="13408800">
            <a:off x="2773440" y="3933000"/>
            <a:ext cx="1224000" cy="129564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971640" y="907920"/>
            <a:ext cx="1295280" cy="136872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755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900000" y="5734080"/>
            <a:ext cx="17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 rot="10800000">
            <a:off x="5722920" y="69228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5651640" y="69228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01200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 rot="16200000">
            <a:off x="6464160" y="3644280"/>
            <a:ext cx="1368360" cy="136872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 rot="18739800">
            <a:off x="6553080" y="3105000"/>
            <a:ext cx="1008000" cy="108108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 rot="13368600">
            <a:off x="5878080" y="3893760"/>
            <a:ext cx="1003320" cy="9684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516720" y="5445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26e2"/>
                </a:solidFill>
                <a:latin typeface="Comic Sans MS"/>
              </a:rPr>
              <a:t>Вычислите площади</a:t>
            </a:r>
            <a:br>
              <a:rPr sz="4000"/>
            </a:br>
            <a:r>
              <a:rPr b="0" lang="ru-RU" sz="4000" spc="-1" strike="noStrike">
                <a:solidFill>
                  <a:srgbClr val="3326e2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26e2"/>
                </a:solidFill>
                <a:latin typeface="Comic Sans MS"/>
              </a:rPr>
              <a:t>треугольников, составленных из трех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 rot="5400000">
            <a:off x="2799720" y="4984560"/>
            <a:ext cx="998640" cy="1055880"/>
          </a:xfrm>
          <a:prstGeom prst="rect">
            <a:avLst/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771640" y="400536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780000" y="501336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276720" y="1844640"/>
            <a:ext cx="100800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 rot="5400000">
            <a:off x="3276720" y="2852640"/>
            <a:ext cx="100800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rot="7986600">
            <a:off x="3620520" y="3128760"/>
            <a:ext cx="1355760" cy="139356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372360" y="263700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372360" y="1700280"/>
            <a:ext cx="108108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 flipH="1" rot="194400">
            <a:off x="6372000" y="2708280"/>
            <a:ext cx="2235240" cy="938160"/>
          </a:xfrm>
          <a:prstGeom prst="parallelogram">
            <a:avLst>
              <a:gd name="adj" fmla="val 125295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611280" y="141300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3"/>
          <p:cNvSpPr/>
          <p:nvPr/>
        </p:nvSpPr>
        <p:spPr>
          <a:xfrm>
            <a:off x="3780000" y="690480"/>
            <a:ext cx="1944360" cy="194796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0800000">
            <a:off x="3780000" y="619200"/>
            <a:ext cx="1008000" cy="10094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 rot="10800000">
            <a:off x="4788000" y="1699920"/>
            <a:ext cx="1008000" cy="93492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788000" y="619200"/>
            <a:ext cx="1008000" cy="1071360"/>
          </a:xfrm>
          <a:prstGeom prst="rect">
            <a:avLst/>
          </a:prstGeom>
          <a:solidFill>
            <a:srgbClr val="f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755640" y="620640"/>
            <a:ext cx="1944720" cy="194472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 rot="5400000">
            <a:off x="1744920" y="63864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 rot="10800000">
            <a:off x="684360" y="62028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 rot="2660400">
            <a:off x="2123640" y="909720"/>
            <a:ext cx="1282680" cy="143820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6"/>
          <p:cNvSpPr/>
          <p:nvPr/>
        </p:nvSpPr>
        <p:spPr>
          <a:xfrm>
            <a:off x="6443640" y="620640"/>
            <a:ext cx="2160720" cy="2089080"/>
          </a:xfrm>
          <a:prstGeom prst="rtTriangle">
            <a:avLst/>
          </a:prstGeom>
          <a:solidFill>
            <a:srgbClr val="f93341"/>
          </a:solidFill>
          <a:ln w="9360">
            <a:solidFill>
              <a:srgbClr val="c606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7"/>
          <p:cNvSpPr/>
          <p:nvPr/>
        </p:nvSpPr>
        <p:spPr>
          <a:xfrm rot="10800000">
            <a:off x="7451640" y="620640"/>
            <a:ext cx="115272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8"/>
          <p:cNvSpPr/>
          <p:nvPr/>
        </p:nvSpPr>
        <p:spPr>
          <a:xfrm rot="10800000">
            <a:off x="7523280" y="1628280"/>
            <a:ext cx="1116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3"/>
          <p:cNvSpPr/>
          <p:nvPr/>
        </p:nvSpPr>
        <p:spPr>
          <a:xfrm flipH="1" rot="80400">
            <a:off x="6441840" y="618840"/>
            <a:ext cx="2158920" cy="1008000"/>
          </a:xfrm>
          <a:prstGeom prst="parallelogram">
            <a:avLst>
              <a:gd name="adj" fmla="val 114020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4"/>
          <p:cNvSpPr/>
          <p:nvPr/>
        </p:nvSpPr>
        <p:spPr>
          <a:xfrm rot="8004000">
            <a:off x="3900240" y="4964040"/>
            <a:ext cx="1303200" cy="1401840"/>
          </a:xfrm>
          <a:prstGeom prst="rtTriangle">
            <a:avLst/>
          </a:prstGeom>
          <a:solidFill>
            <a:srgbClr val="332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8"/>
          <p:cNvSpPr/>
          <p:nvPr/>
        </p:nvSpPr>
        <p:spPr>
          <a:xfrm rot="5400000">
            <a:off x="3527640" y="3609000"/>
            <a:ext cx="1008000" cy="10796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9"/>
          <p:cNvSpPr/>
          <p:nvPr/>
        </p:nvSpPr>
        <p:spPr>
          <a:xfrm rot="10800000">
            <a:off x="4500720" y="4653000"/>
            <a:ext cx="1008000" cy="100944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4500720" y="3645000"/>
            <a:ext cx="1008000" cy="1008000"/>
          </a:xfrm>
          <a:prstGeom prst="rect">
            <a:avLst/>
          </a:prstGeom>
          <a:solidFill>
            <a:srgbClr val="f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1"/>
          <p:cNvSpPr/>
          <p:nvPr/>
        </p:nvSpPr>
        <p:spPr>
          <a:xfrm flipH="1" rot="5295000">
            <a:off x="3084120" y="4197240"/>
            <a:ext cx="1812960" cy="996840"/>
          </a:xfrm>
          <a:prstGeom prst="parallelogram">
            <a:avLst>
              <a:gd name="adj" fmla="val 95642"/>
            </a:avLst>
          </a:prstGeom>
          <a:solidFill>
            <a:srgbClr val="f9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rcRect l="18262" t="22439" r="58858" b="47049"/>
          <a:stretch/>
        </p:blipFill>
        <p:spPr>
          <a:xfrm>
            <a:off x="2050920" y="191628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1042920" y="404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26e2"/>
                </a:solidFill>
                <a:latin typeface="Comic Sans MS"/>
              </a:rPr>
              <a:t>Составьте первоначальный квадрат и найдите его площ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1:42:58Z</dcterms:created>
  <dc:creator>POPOV</dc:creator>
  <dc:description/>
  <dc:language>en-US</dc:language>
  <cp:lastModifiedBy>Admin</cp:lastModifiedBy>
  <dcterms:modified xsi:type="dcterms:W3CDTF">2010-05-23T14:28:19Z</dcterms:modified>
  <cp:revision>17</cp:revision>
  <dc:subject/>
  <dc:title>Слайд 1</dc:title>
</cp:coreProperties>
</file>